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36A-5573-414C-96D5-9794AAF0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8DB-A4D1-411D-AAFB-3DEB012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44F-5DBE-4A83-9B4F-DE7EEA51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AC3-1DC9-4E08-8794-AF305AEB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722-9573-46F4-887E-7D1943EE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816-9F23-4F59-9A5A-B5AE2F1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A3E-7BE3-4BA2-924C-930F81E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EF9C-5C67-45C9-BAB3-7E60893C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6756-9EAC-46C6-A49A-33777B6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B23-9611-4664-94C0-F833181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86EE-0098-485A-822D-030D3B9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F63-67ED-484C-8700-0D58B39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C42-6D4D-4962-96C9-21FC785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F9E-6668-4857-86A8-5A8C9F8C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EE60-6F63-4122-BFDE-8C0C17B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0388-FF38-4CDF-92E9-8B56A174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A48-EE96-4B7C-A698-0496FF67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9828-0767-41BB-BD86-A326A64F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3F85-4B1A-463B-AEDA-377C344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243D-1064-44D0-85DE-214C593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D238-98EB-4C9D-84BE-E49DDA29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3306-B10B-4935-AB63-130CCEC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8FF-EABF-4128-A899-3B34339A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AFDB-5DD6-42B1-97C1-0154170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2947-2E66-44BA-8B30-DD44440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9A10-557A-4CC1-A902-4445A0B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DF18-B9D1-4360-A32E-0827D5D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3AFE-5202-4338-87A3-05DF061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9C06-81DF-4919-9E7E-BBE5B104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A094-3287-48AC-BA29-5A2CCA28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F26-3180-4316-9741-B0FA4847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54A-A0AA-4EAD-92DA-A56A4BB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CDE-C795-41DA-A108-CF2E5F5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167-7B3A-4D78-A39C-5D89D14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35C-0605-4AA6-88B1-1F59AB1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9F7-3854-4536-9D07-ADE09D9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E2D-AFE1-4CFF-8CC6-07A42DC6C657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698-FA14-4690-886F-CD7E1FE2D10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89F0-2105-4162-AE0E-9A41ADB2CBE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 Black"/>
              </a:rPr>
              <a:t>ОПРОВЕРЖЕНИЕ ДОВОДОВ ОППОНЕНТА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АЗАЛИЙ Р.В. –ДОЦЕНТ КАФЕДРЫ ТИМПО, КАНД.ПЕД.НАУК</a:t>
            </a:r>
            <a:br>
              <a:rPr sz="2400"/>
            </a:b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303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СВЕДЕНИЕ К АБСУРДУ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остраненным приемом опровержения является доведение до нелепости или сведение к абсурд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русский адвокат Ф.А.Плевако неоднократно использовал данный при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1835280" y="3525840"/>
            <a:ext cx="499896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ПРИЕМ БУМЕРАНГ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ольно часто применяется «возвратный удар», или прием бумеранга. Полемический прием заключается в том, что тезис или аргумент обращается против тех, кто их высказал. При этом сила удара многократно увеличивается. Поражение очевид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-14400" y="3997440"/>
            <a:ext cx="4608720" cy="2882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3195720" cy="31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438280" y="765000"/>
            <a:ext cx="6400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видностью «возвратного удара» считается прием «подхвата реплики». В ходе обсуждения спорных вопросов полемисты нередко бросают реплики разного характера, умение применить необходимую реплику, оказывает психологическое воздействие – действенный прием в полемик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ТЕХНИЧЕСКИЕ ПРИЕМЫ ВЕДЕНИЯ ПОЛЕМИК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мика – дискуссия по спорным, еще не решенным вопросам, предполагающую, наряду с обоснованием выдвинутых тезисов, критический взаимный анализ предлож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емика не превратилась в борьбу амбиций, рекомендуется соблюдать следующие правил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438280" y="476280"/>
            <a:ext cx="6400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ходе аргументации только теми аргументами, которые вы и ваш оппонент понимаете одинаково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уменьшайте значимость сильных аргументов оппонента, лучше подчеркивайте их важность и свое  правильное понимание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3890880"/>
            <a:ext cx="350532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72 E">
                                      <p:cBhvr>
                                        <p:cTn id="11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72 E">
                                      <p:cBhvr>
                                        <p:cTn id="11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ивайте количество своих аргументов. Излишняя убедительность всегда вызывает отпор, т.к. превосходство партнера в споре всегда обидно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е не только о плюсах своих предложений, но и о минусах. Этим вы придадите им большую объективность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йте в качестве аргументов только те, которые принимает ваш оппонент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утайте факты и мнен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5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7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9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вайте аргументы, с уважением к оппоненту и к его позиции («друга убедить легче, чем врага»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сылки на авторитет, известный вам и вашему оппоненту, усиливают ваши аргументы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3435480"/>
            <a:ext cx="4788000" cy="34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72 E">
                                      <p:cBhvr>
                                        <p:cTn id="13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72 E">
                                      <p:cBhvr>
                                        <p:cTn id="13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ОПРОВЕРЖЕНИЕ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оверж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азновидность доказательства, когда доказывается не истинность, а ложность суждения или неправильность самого доказательства. Опровержение, т.о., направлено на разрушение доказательства оппон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17640" y="4352760"/>
            <a:ext cx="33289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 происходит по схем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067280" y="2133720"/>
            <a:ext cx="237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95640" y="2133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вержение доводов оп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0360" y="4076640"/>
            <a:ext cx="1727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2000" y="4076640"/>
            <a:ext cx="1584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300720" y="4076640"/>
            <a:ext cx="1727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27280" y="414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вержение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43280" y="414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ка арг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00720" y="414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ка демон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5219640" y="2781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64000" y="3429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56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70930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298440" y="1595520"/>
            <a:ext cx="313992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ОПРОВЕРЖЕНИЕ ТЕЗИС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ям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ровержение показывает абсурдность утверждения оппонента. Это достигается следующим образом: «Предположим, что вы правы. Но тогда из вашего утверждения вытекает такое следствие, а из него еще одно. А это противоречит всем известному факту (называете)». Логической основой этого метода является тот факт, что ложные следствия свидетельствуют о ложности исходного тези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0" y="4886280"/>
            <a:ext cx="2952720" cy="197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6434280" y="4840200"/>
            <a:ext cx="2741400" cy="200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освенном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доводе опровергающий вначале не касается тезиса, который хочет опровергнуть. Все силу идут на аргументацию собственного тезиса, который противоречит критикуемому. После того как удастся убедить в справедливости собственного тезиса, подводится итог: поскольку наш тезис доказан, а противоречит критикуемому, следовательно,  оппонент не пра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049480" cy="1598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39600" y="438624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КРИТИКА АРГУМЕНТОВ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ка аргументов выражается в том, что оппоненту указывают на неточное изложение фактов, двусмысленность статистических данных, выражают сомнения в авторитарности эксперта, на заключение которого ссылается оппонент, и т.п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0" y="3981600"/>
            <a:ext cx="40672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КРИТИКА ДЕМОНСТРАЦИИ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ывают, что в приведенных рассуждениях нет логической связи между аргументами и тезисом. Или вообще совершается логическая ошибка, нарушаются законы логики. Когда тезис не вытекает из аргументов, то он, естественно, объявляется недоказанны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4897440" y="4038480"/>
            <a:ext cx="41036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40000" y="228600"/>
            <a:ext cx="662472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СИЛА МЕТОДОВ ОПРОВЕРЖЕНИ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1557360"/>
            <a:ext cx="6400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ка аргументов и критика демонстрации сами по себе разрушают доказательство. Заявлять об опровержении тезиса противоположной стороны нельзя. О нем можно сказать, что он требует нового обоснования, т.к. опирается на неубедительные доводы или аргументы, не имеющие прямого отношения к тезис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0" y="4508640"/>
            <a:ext cx="2738520" cy="23335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2"/>
          <a:stretch/>
        </p:blipFill>
        <p:spPr>
          <a:xfrm>
            <a:off x="0" y="324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2:10:12Z</dcterms:created>
  <dc:creator>Dmitriy</dc:creator>
  <dc:description/>
  <dc:language>en-US</dc:language>
  <cp:lastModifiedBy>Базалий Раиса Викторовна</cp:lastModifiedBy>
  <dcterms:modified xsi:type="dcterms:W3CDTF">2015-12-10T06:25:21Z</dcterms:modified>
  <cp:revision>15</cp:revision>
  <dc:subject/>
  <dc:title>Опровержение доводов оппонента </dc:title>
</cp:coreProperties>
</file>